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35877"/>
        <c:axId val="56231600"/>
      </c:barChart>
      <c:catAx>
        <c:axId val="49835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31600"/>
        <c:crosses val="autoZero"/>
        <c:auto val="1"/>
        <c:lblAlgn val="ctr"/>
        <c:lblOffset val="100"/>
        <c:noMultiLvlLbl val="0"/>
      </c:catAx>
      <c:valAx>
        <c:axId val="562316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35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34E-B110-4C0A-988C-1FCD8DCA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617C-167D-4DCA-8208-CC0CCA7F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4FD-9F11-4498-A6AA-6E48A886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4DF-68BE-4406-9FBB-115E4659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278-7FDB-4A09-91B6-B6F00F1A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74F-CFF6-40A4-97E5-0B29B3F7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F50-B853-4751-B7D3-747E44BB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6E3D-48A1-46AE-95CB-7B5174C8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2D3-3289-4E49-BE75-E11E1EA0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1CC-9D56-443A-B59F-DCDB9CCB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47F-234B-4D75-958B-6A1F447D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0A1-BFBF-432E-ADE0-FCC20B66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7F6D8-F7C2-45CE-B2C4-B8E7FC6394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