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46272"/>
        <c:axId val="66585883"/>
      </c:barChart>
      <c:catAx>
        <c:axId val="31946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85883"/>
        <c:crosses val="autoZero"/>
        <c:auto val="1"/>
        <c:lblAlgn val="ctr"/>
        <c:lblOffset val="100"/>
        <c:noMultiLvlLbl val="0"/>
      </c:catAx>
      <c:valAx>
        <c:axId val="66585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46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888-5567-4A83-908D-E6FBA5E0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120-FE89-441C-BE39-F0469DB6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794-4175-4011-BA1B-C0096FA7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0C4-20BC-43BF-A91F-92915816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9F2-2868-4EF5-9E17-8FE5DA77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77B-99B4-4E28-9143-50CD4966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BC9-5858-4F8D-A68B-72AD7703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93C-E047-44D5-839D-0C07CE3A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7DE-2EC0-406D-9570-66BA6BE7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798-2BFC-444F-9296-63E6003D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526-E0FF-4743-BE6C-39EAE8D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41C-3D63-413A-9FA2-39A706C2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93488-22FC-487B-ABEA-E09FFE88CF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