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650504"/>
        <c:axId val="44407532"/>
      </c:barChart>
      <c:catAx>
        <c:axId val="266505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07532"/>
        <c:crosses val="autoZero"/>
        <c:auto val="1"/>
        <c:lblAlgn val="ctr"/>
        <c:lblOffset val="100"/>
        <c:noMultiLvlLbl val="0"/>
      </c:catAx>
      <c:valAx>
        <c:axId val="444075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505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979D-2F7F-4C4C-9C08-FBE013A01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9B36-6EBB-4A71-9521-C00470DD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AC1E-A985-49BE-AB00-C5D2EE11C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8BED-FE86-4C84-A1B3-C5BB137BA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2B9D-93B9-4E8A-8BBB-E1DD4AE9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B884-9AC2-4E6F-AC34-CA0F789F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FF02-F3A2-4362-A7AD-BB54B63A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8BBA-6C84-46D6-9913-1A829851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B7E3-07FD-46D9-8E54-1250B58A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1C93-A280-4994-BCA0-38B96253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47DE-B498-4374-B46F-57263DD0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31C1-739C-4750-B153-2005CF1C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B726B-D2C3-4AC9-B6A3-78905A3B3E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