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44466"/>
        <c:axId val="59569324"/>
      </c:barChart>
      <c:catAx>
        <c:axId val="32944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69324"/>
        <c:crosses val="autoZero"/>
        <c:auto val="1"/>
        <c:lblAlgn val="ctr"/>
        <c:lblOffset val="100"/>
        <c:noMultiLvlLbl val="0"/>
      </c:catAx>
      <c:valAx>
        <c:axId val="59569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44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7C5-B80C-4865-91DE-E7ED7804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CA4-636E-4211-B18F-C20D297B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0AD-2B0B-4173-A965-0EA35B46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300-A3AD-47E8-9475-D9E5A197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367-DBD2-46B2-987B-70E866B9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360-B05F-4723-BB3E-2736ADBB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6A9-3D3B-4F22-B9D6-75967F0C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0E0-919E-43F9-BBD2-33F82F27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FAC-2B02-45A7-99A8-0CDB22BC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1B6-73BA-467B-992C-DBC83A54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986-4D59-4208-87B5-12307CFE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9BD-D2A2-4C06-917C-6DDBED5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536D0-CEA7-48A0-91CC-3246DD4DDB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