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437608"/>
        <c:axId val="61846871"/>
      </c:barChart>
      <c:catAx>
        <c:axId val="20437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46871"/>
        <c:crosses val="autoZero"/>
        <c:auto val="1"/>
        <c:lblAlgn val="ctr"/>
        <c:lblOffset val="100"/>
        <c:noMultiLvlLbl val="0"/>
      </c:catAx>
      <c:valAx>
        <c:axId val="61846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37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51C-8CC8-473F-A066-2D1BFBF3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C0A3-8CEA-4FB8-B0E1-2DB16241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FC5-E14F-45AA-AC16-7D190EA9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22E-CEED-4607-929E-90D02E15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C940-3CAB-4B20-95A9-728AA4EC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38B7-CB9E-4838-B844-4EDD020C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496-02CD-4255-B5E9-2856A886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785-2FC7-4AE6-B960-B41FFAE8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3AA5-06B8-4E79-AFE1-BA28C843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3FE-25AC-4438-A3ED-0097826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588-19BF-4BD8-AC36-492ABE5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1F2-23C2-447D-A240-8CFCA234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1F970-3D55-434F-BD80-47537ECFB9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