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3194"/>
        <c:axId val="92906461"/>
      </c:barChart>
      <c:catAx>
        <c:axId val="2593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06461"/>
        <c:crosses val="autoZero"/>
        <c:auto val="1"/>
        <c:lblAlgn val="ctr"/>
        <c:lblOffset val="100"/>
        <c:noMultiLvlLbl val="0"/>
      </c:catAx>
      <c:valAx>
        <c:axId val="92906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F45-BCCE-48C4-981F-160EF167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B3B-AF3A-46AA-A952-BB093709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603-9FBC-417F-9D6D-F2EED749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3C9-AC24-45D4-B58A-794FB6A5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156-B1B6-4EE4-807D-2D0D3D8A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FC2-19E1-42C0-9504-A45825E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946-40A0-4473-A03D-42943E6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107-5F79-43BF-BE5B-9BC81F61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09F-0CC7-49D8-A8E0-0703DB1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F48-5E2C-470D-B312-77FDAD8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DF0-C449-480E-9044-39011C8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4A3-292E-4C2D-AAA8-E949FAA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0C94-CAD3-448B-B789-70CFD055F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