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11023"/>
        <c:axId val="2344499"/>
      </c:barChart>
      <c:catAx>
        <c:axId val="13011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4499"/>
        <c:crosses val="autoZero"/>
        <c:auto val="1"/>
        <c:lblAlgn val="ctr"/>
        <c:lblOffset val="100"/>
        <c:noMultiLvlLbl val="0"/>
      </c:catAx>
      <c:valAx>
        <c:axId val="2344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11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663-9EFF-41C9-BC12-765E14A6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795-4D49-40F9-8A81-A04AAF6A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34C-0ACC-4F8E-B73B-52C0BEFF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89E-3132-4719-8A4C-66AA1566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0D4-1DCC-4EBD-85D8-CFBB2BD2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669-917A-4838-94B5-D24AB7A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227-A722-4F56-8E5F-119A542F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D56-E603-47DE-B3A8-0DB44EE7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0F8-8655-424F-B2FC-5F7D3A24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E2A-7642-4183-AADA-B2A5D61F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76D-7244-40F6-B7BD-1FF9017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258-F010-4CFC-A44C-0E62600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A75EE-3E04-40AC-91F4-5E87013ED4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