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12333"/>
        <c:axId val="64803808"/>
      </c:barChart>
      <c:catAx>
        <c:axId val="74612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3808"/>
        <c:crosses val="autoZero"/>
        <c:auto val="1"/>
        <c:lblAlgn val="ctr"/>
        <c:lblOffset val="100"/>
        <c:noMultiLvlLbl val="0"/>
      </c:catAx>
      <c:valAx>
        <c:axId val="64803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12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6F6-C0C6-409C-8F17-90917979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19D-B173-4216-8D71-DE58CD82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D15-D275-4E3B-B858-2E323E23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CAE-D188-4621-B221-69DB76F3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FD5-BBA7-42EF-BD57-4F4E61A7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1DD-0AC6-47C1-A332-6C73C0F9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BE6-0557-4863-BFC7-ECC0EC97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6A7-5A74-4AF9-BB67-CC8BFFF4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58A-D85E-4E1C-BEBC-F95E64E1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D53-8623-4382-B4CA-4967D9E3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C42-D3E4-4D16-A4E8-D663E44D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7DD-910D-477B-88B2-402967A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C685F-A9A2-4482-B440-62C7762DAC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