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66063"/>
        <c:axId val="5971791"/>
      </c:barChart>
      <c:catAx>
        <c:axId val="417660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1791"/>
        <c:crosses val="autoZero"/>
        <c:auto val="1"/>
        <c:lblAlgn val="ctr"/>
        <c:lblOffset val="100"/>
        <c:noMultiLvlLbl val="0"/>
      </c:catAx>
      <c:valAx>
        <c:axId val="5971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660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FF7-7F8F-4566-BAF9-51C2B761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EA4-A843-4836-B1C6-44339052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CEAA-F44D-4318-ADE7-2E0E3674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A58-9DE4-4F29-A623-1A8BAE4B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42B-F7BD-4240-9CE6-7E3D6A8F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A58-9B0A-4E6E-BF31-F03010FA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DBA-44E5-46B8-802E-13775A69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882-F840-43EF-B0D1-CB6C2126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BB79-60FC-422C-AE85-1CF12486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749-59F7-4CEF-8F77-3507E3DF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445-726B-46D9-A875-EDCC9DB2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4F7C-12A5-4660-99C3-9ABC9409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A32BC-A002-4414-A2DE-12BACE1FD0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