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91682"/>
        <c:axId val="92627198"/>
      </c:barChart>
      <c:catAx>
        <c:axId val="93091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7198"/>
        <c:crosses val="autoZero"/>
        <c:auto val="1"/>
        <c:lblAlgn val="ctr"/>
        <c:lblOffset val="100"/>
        <c:noMultiLvlLbl val="0"/>
      </c:catAx>
      <c:valAx>
        <c:axId val="92627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91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340-D695-487D-8B4B-12A585BD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EB0-A732-4B2F-AA60-C2B63BD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815-14D1-407C-86DE-DC5F267B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F15-643D-4C0C-B81E-A8D10ADD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9A1-D1D8-4445-B309-419906FA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3DA-F55B-409F-AB2E-57914856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41B-021E-411D-8897-B1888F0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830-032C-45DA-B3AF-1B6A5973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A3E-B998-4E61-A99D-0FC55A2B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1CB-DB46-495F-AE02-400D4003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16E-04C3-4100-A1D2-7CDF2B29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F4D-88A6-4770-8EEF-B762DAA1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53084-9992-4A22-9803-926E15A597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